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jpeg" ContentType="image/jpeg"/>
  <Override PartName="/ppt/media/drumroll.wav" ContentType="audio/x-wav"/>
  <Override PartName="/ppt/media/image13.jpeg" ContentType="image/jpeg"/>
  <Override PartName="/ppt/media/image4.png" ContentType="image/png"/>
  <Override PartName="/ppt/media/image2.png" ContentType="image/png"/>
  <Override PartName="/ppt/media/image3.wmf" ContentType="image/x-wmf"/>
  <Override PartName="/ppt/media/image1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734-3C4F-4834-A784-C56B96BF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CBF-0176-45FC-8BC7-0C6C307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DEB-3BB3-447D-A079-0D48B433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525-AF31-4722-8057-E06AD144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9089-DEE1-485A-9BB8-A6FAC4F7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4124-5DAF-4641-92A0-87F672F7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F7B6-5C6E-46F2-A769-7FAF675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641-B930-4490-BA30-097BCC4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744-C397-4DCD-A7BD-C662224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ED7-F1BA-406E-80C1-D095FF43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2B9F-15E1-4980-96C0-0E23CC6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30D-CDFB-49C5-8C7A-A3E0F0A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A8D6-2A06-4B53-8383-8F8CE70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256-7D24-4E32-B4A6-84560C10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8815-4F0C-41DC-AF66-4659B69D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3417-CC29-46BE-8B07-3C15459D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2A5-8EE8-486C-AA93-B3A1E309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56AE4-5A8F-4251-9E32-DA9246F6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10D7-1C4E-4923-9844-CAE36904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BD63-4BAC-4C62-8774-C36387A3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882F1-1B70-453F-AB33-EF5EAF8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3E20-D3CD-4904-8443-1EF6226A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1B1-B06D-455E-B87E-BFAF446D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29B8B-ED08-47A9-A56D-B98179A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350D-B348-467B-8836-8F0A9F15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AD5C-C447-44C3-8175-C0325EA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051F-27BA-4252-B40B-E1770727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2703-356D-45DB-951A-2CB35B6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AA058-1597-4F31-95A0-BCA562C5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8ADA-8DC0-4EBC-86F5-1EB4A3B4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5CB2-E242-419B-B73E-65573EAA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75E0-2D14-401B-88E0-5C7618E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0B0C-617D-4605-94A9-EF2A1B9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674-96D0-4D84-8D3D-54200CB9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AB7C-0E5B-42B8-8677-C9CCCBE0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DE9C-303C-485F-8E0B-9FD07D5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9E31-2ED0-47B0-8B86-32AEBE3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E4A8-912A-49C3-AB08-35D150D4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D5E5-0C1A-45E5-AF0D-6FEDB91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DEAD7-6F7E-4EE3-82EF-8AE8840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F9747-E657-4D80-BCCE-5B5B6BA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2805-740A-4F00-AA52-BA13DF56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76CC-1BEF-4F08-8F1A-A8DA621D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D918-A80B-4C81-A5C7-55DECFBD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8D0-830C-45B2-9B64-3E55D5E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9E5A-B689-45F1-B83D-A062057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93D6-9A60-404B-AEAE-9A78273F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00F69-487A-4A9B-981A-FF80E87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9950-8B1D-4E94-BF38-03FF7254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50AB9-4F7E-46FA-84F6-4D95A51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75714-E74C-404B-9B0A-B3C10D76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BCB99-D498-4BD2-9AB6-01D31054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CA0EA-F2BF-479B-A1D7-8B36F28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1C34-85E9-4D4C-9D92-7190044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EA8B-0D8B-4650-B4AC-479794E1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24F-F590-4E43-8293-5FC3E9E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57B5-7EE4-4872-A509-DE202743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79F2E-C1C4-4793-9443-8929F8F7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CFB31-38A8-4A9C-BE1F-630DB05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80D0E-A59E-470A-8DDB-C3E09FC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9CD3-68E3-4EAC-9943-BB69F348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CDC1-2AE5-482C-B835-B928F05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70DB2-E938-42D2-B265-0A6D0007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A6522-3A70-4DB5-9004-A1DAB8D8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E912-8688-4AE1-AD51-AD5CF81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0E75-D7F6-4784-B3D2-1FD49A1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665-7632-4C9E-B40B-A14A8C44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5325-C47C-44AE-A3A7-D102FF86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3E5CD-8400-47BC-92E2-79AD9BE2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35BD7-C466-432B-A9E2-8F06328A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84350-002E-4939-A52D-0623BFCA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9E43-35EA-4AFE-BF08-16203A00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F3E6-B893-4678-A791-808C5C32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12752-01BB-4BCD-9C9F-C94450E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3161A-9D91-464F-8EEE-644D6D1F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D485-C5A8-4983-A608-FF7C283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9D98E-6AC2-4A5F-A903-C4E1A898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E4B-78F3-4565-958F-462E61B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5498-0859-43CF-BDC6-EACFEE3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B69C-F632-4824-A034-541CF24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3E53-3144-4EB4-B222-6D98EFB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0F15C-68B4-4289-89F5-1DDA7034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546F6-0808-4715-B07C-D2A1F766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32507-9419-43DA-8A7C-5DBD1BF2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241BB-715E-43BE-AB94-ACE5D275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95F51-4060-4352-A1A6-6C04050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E8A0-7A63-47AA-B69B-23EE358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3E97F-E8E4-45BE-A237-3FBA5AA3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A8F-2B6A-4169-BB03-D7D0AFF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90DC9-8323-4F03-B498-BF74E9EB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2A956-963A-4942-862C-70E71E38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9A853-23B1-423C-8BA4-8FFD9D60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E0D3-835C-42A0-84A4-173953E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FFA7-B2EF-425B-8135-110F328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BD2F-07FE-48F4-B61C-FFEB836E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2C149-3C6D-4E8B-8FF0-A5FF1F98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85B9-1C5D-4A3C-8F8B-3C2D5477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771-5A39-47B0-8300-A3DC3C9D81F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B21-32CF-4730-9B01-9FBE02CB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E1A9-C851-417C-B082-48CCBC9A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B68F-B8DE-432E-917B-67E531F8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5B4-307E-425F-B3E7-4322C056D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60FC-1B04-4DB7-8832-D7D5469E5D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4DF5-877E-4158-818B-52E248A4D292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WordArt 4" descr=""/>
          <p:cNvPicPr/>
          <p:nvPr/>
        </p:nvPicPr>
        <p:blipFill>
          <a:blip r:embed="rId1"/>
          <a:stretch/>
        </p:blipFill>
        <p:spPr>
          <a:xfrm>
            <a:off x="701640" y="85680"/>
            <a:ext cx="75088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-19080" y="268200"/>
            <a:ext cx="87123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Rock_Climbing_SanDiego"/>
          <p:cNvPicPr/>
          <p:nvPr/>
        </p:nvPicPr>
        <p:blipFill>
          <a:blip r:embed="rId1"/>
          <a:stretch/>
        </p:blipFill>
        <p:spPr>
          <a:xfrm>
            <a:off x="-428760" y="0"/>
            <a:ext cx="6572520" cy="7429680"/>
          </a:xfrm>
          <a:prstGeom prst="rect">
            <a:avLst/>
          </a:prstGeom>
          <a:ln w="0">
            <a:noFill/>
          </a:ln>
        </p:spPr>
      </p:pic>
      <p:sp>
        <p:nvSpPr>
          <p:cNvPr id="362" name="4 CuadroTexto"/>
          <p:cNvSpPr/>
          <p:nvPr/>
        </p:nvSpPr>
        <p:spPr>
          <a:xfrm>
            <a:off x="5715000" y="1143000"/>
            <a:ext cx="49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Clim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shouting"/>
          <p:cNvPicPr/>
          <p:nvPr/>
        </p:nvPicPr>
        <p:blipFill>
          <a:blip r:embed="rId1"/>
          <a:stretch/>
        </p:blipFill>
        <p:spPr>
          <a:xfrm>
            <a:off x="0" y="-142920"/>
            <a:ext cx="6400800" cy="7000920"/>
          </a:xfrm>
          <a:prstGeom prst="rect">
            <a:avLst/>
          </a:prstGeom>
          <a:ln w="0">
            <a:noFill/>
          </a:ln>
        </p:spPr>
      </p:pic>
      <p:pic>
        <p:nvPicPr>
          <p:cNvPr id="364" name="4 CuadroTexto" descr=""/>
          <p:cNvPicPr/>
          <p:nvPr/>
        </p:nvPicPr>
        <p:blipFill>
          <a:blip r:embed="rId2"/>
          <a:stretch/>
        </p:blipFill>
        <p:spPr>
          <a:xfrm>
            <a:off x="7412040" y="457200"/>
            <a:ext cx="2232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running"/>
          <p:cNvPicPr/>
          <p:nvPr/>
        </p:nvPicPr>
        <p:blipFill>
          <a:blip r:embed="rId1"/>
          <a:stretch/>
        </p:blipFill>
        <p:spPr>
          <a:xfrm>
            <a:off x="-2427120" y="0"/>
            <a:ext cx="12420360" cy="8286840"/>
          </a:xfrm>
          <a:prstGeom prst="rect">
            <a:avLst/>
          </a:prstGeom>
          <a:ln w="0">
            <a:noFill/>
          </a:ln>
        </p:spPr>
      </p:pic>
      <p:sp>
        <p:nvSpPr>
          <p:cNvPr id="366" name="4 CuadroTexto"/>
          <p:cNvSpPr/>
          <p:nvPr/>
        </p:nvSpPr>
        <p:spPr>
          <a:xfrm>
            <a:off x="-928800" y="1500120"/>
            <a:ext cx="32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Ru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lakota_jumping"/>
          <p:cNvPicPr/>
          <p:nvPr/>
        </p:nvPicPr>
        <p:blipFill>
          <a:blip r:embed="rId1"/>
          <a:stretch/>
        </p:blipFill>
        <p:spPr>
          <a:xfrm>
            <a:off x="-1297080" y="-1074600"/>
            <a:ext cx="11738160" cy="9007200"/>
          </a:xfrm>
          <a:prstGeom prst="rect">
            <a:avLst/>
          </a:prstGeom>
          <a:ln w="0">
            <a:noFill/>
          </a:ln>
        </p:spPr>
      </p:pic>
      <p:sp>
        <p:nvSpPr>
          <p:cNvPr id="368" name="4 CuadroTexto"/>
          <p:cNvSpPr/>
          <p:nvPr/>
        </p:nvSpPr>
        <p:spPr>
          <a:xfrm>
            <a:off x="6072120" y="428760"/>
            <a:ext cx="383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flying-stork"/>
          <p:cNvPicPr/>
          <p:nvPr/>
        </p:nvPicPr>
        <p:blipFill>
          <a:blip r:embed="rId1"/>
          <a:stretch/>
        </p:blipFill>
        <p:spPr>
          <a:xfrm>
            <a:off x="-1279440" y="-960480"/>
            <a:ext cx="11704680" cy="8778960"/>
          </a:xfrm>
          <a:prstGeom prst="rect">
            <a:avLst/>
          </a:prstGeom>
          <a:ln w="0">
            <a:noFill/>
          </a:ln>
        </p:spPr>
      </p:pic>
      <p:sp>
        <p:nvSpPr>
          <p:cNvPr id="370" name="4 CuadroTexto"/>
          <p:cNvSpPr/>
          <p:nvPr/>
        </p:nvSpPr>
        <p:spPr>
          <a:xfrm>
            <a:off x="365760" y="57150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5" descr="Fatty_watching_himself_on_TV"/>
          <p:cNvPicPr/>
          <p:nvPr/>
        </p:nvPicPr>
        <p:blipFill>
          <a:blip r:embed="rId1"/>
          <a:stretch/>
        </p:blipFill>
        <p:spPr>
          <a:xfrm>
            <a:off x="-285840" y="-1074600"/>
            <a:ext cx="6929640" cy="9007200"/>
          </a:xfrm>
          <a:prstGeom prst="rect">
            <a:avLst/>
          </a:prstGeom>
          <a:ln w="0">
            <a:noFill/>
          </a:ln>
        </p:spPr>
      </p:pic>
      <p:pic>
        <p:nvPicPr>
          <p:cNvPr id="372" name="4 CuadroTexto" descr=""/>
          <p:cNvPicPr/>
          <p:nvPr/>
        </p:nvPicPr>
        <p:blipFill>
          <a:blip r:embed="rId2"/>
          <a:stretch/>
        </p:blipFill>
        <p:spPr>
          <a:xfrm>
            <a:off x="7448400" y="-42840"/>
            <a:ext cx="2232000" cy="9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ClappingHands"/>
          <p:cNvPicPr/>
          <p:nvPr/>
        </p:nvPicPr>
        <p:blipFill>
          <a:blip r:embed="rId1"/>
          <a:stretch/>
        </p:blipFill>
        <p:spPr>
          <a:xfrm>
            <a:off x="0" y="-1074600"/>
            <a:ext cx="9501120" cy="9007200"/>
          </a:xfrm>
          <a:prstGeom prst="rect">
            <a:avLst/>
          </a:prstGeom>
          <a:ln w="0">
            <a:noFill/>
          </a:ln>
        </p:spPr>
      </p:pic>
      <p:sp>
        <p:nvSpPr>
          <p:cNvPr id="374" name="4 CuadroTexto"/>
          <p:cNvSpPr/>
          <p:nvPr/>
        </p:nvSpPr>
        <p:spPr>
          <a:xfrm>
            <a:off x="6572880" y="521496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Clap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path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66 0.00799 -0.115 0.02797 -0.115 0.04396 C -0.115 0.05861 -0.067 0.06927 -0.003 0.06927 C 0.061 0.06927 0.115 0.05861 0.115 0.04396 C 0.115 0.02797 0.059 0.02398 -0.005 0.03463 C -0.068 0.04662 -0.115 0.0666 -0.115 0.08126 C -0.115 0.09591 -0.066 0.1079 -0.003 0.1079 C 0.061 0.1079 0.115 0.09591 0.115 0.08126 C 0.115 0.0666 0.059 0.06261 -0.004 0.07327 C -0.068 0.08392 -0.115 0.1039 -0.115 0.11856 C -0.115 0.13454 -0.066 0.14653 -0.002 0.14653 C 0.061 0.14653 0.115 0.13454 0.115 0.11856 C 0.115 0.10524 0.059 0.10124 -0.004 0.11056 C -0.067 0.12122 -0.115 0.14253 -0.115 0.15719 C -0.115 0.17184 -0.065 0.18383 -0.002 0.18383 C 0.063 0.18383 0.115 0.17184 0.115 0.15719 C 0.115 0.14253 0.06 0.13854 -0.003 0.1492 C -0.066 0.15985 -0.115 0.17983 -0.115 0.19449 C -0.115 0.21047 -0.065 0.22113 -0.001 0.22113 C 0.063 0.22113 0.115 0.20914 0.115 0.19449 C 0.115 0.17983 0.06 0.17584 -0.003 0.18649 C -0.066 0.19715 -0.115 0.21846 -0.115 0.23179 C -0.115 0.24644 -0.064 0.25843 -0.001 0.25843 C 0.063 0.25843 0.115 0.24644 0.115 0.23179 C 0.115 0.21846 0.061 0.21447 -0.003 0.22379 C -0.066 0.23445 -0.115 0.25576 -0.115 0.27042 C -0.115 0.28374 -0.064 0.29706 0 0.29706 C 0.064 0.29706 0.115 0.28507 0.115 0.27042 C 0.115 0.25576 0.061 0.25177 -0.002 0.26242 C -0.065 0.27308 -0.116 0.29306 -0.115 0.30772 C -0.114 0.32237 -0.064 0.33302 0 0.33302 C 0.064 0.33302 0.115 0.32104 0.115 0.30638 C 0.115 0.29306 0.063 0.28907 0 0.30105 E">
                                      <p:cBhvr>
                                        <p:cTn id="137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2700360" y="692280"/>
            <a:ext cx="40323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Play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o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Do</a:t>
            </a:r>
            <a:endParaRPr b="0" lang="en-US" sz="8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50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4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7461360" cy="1030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j0299763"/>
          <p:cNvPicPr/>
          <p:nvPr/>
        </p:nvPicPr>
        <p:blipFill>
          <a:blip r:embed="rId2"/>
          <a:stretch/>
        </p:blipFill>
        <p:spPr>
          <a:xfrm>
            <a:off x="6948360" y="692280"/>
            <a:ext cx="1468440" cy="120960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468360" y="2637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Arial"/>
              </a:rPr>
              <a:t>G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 = deportes terminados 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0" lang="es-ES_tradnl" sz="5400" spc="-1" strike="noStrike">
                <a:solidFill>
                  <a:srgbClr val="ff3300"/>
                </a:solidFill>
                <a:latin typeface="Arial"/>
              </a:rPr>
              <a:t>“-ing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468360" y="50324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Do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= el rest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9010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Coach-KickingBall"/>
          <p:cNvPicPr/>
          <p:nvPr/>
        </p:nvPicPr>
        <p:blipFill>
          <a:blip r:embed="rId1"/>
          <a:stretch/>
        </p:blipFill>
        <p:spPr>
          <a:xfrm>
            <a:off x="1332000" y="0"/>
            <a:ext cx="647856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4 CuadroTexto"/>
          <p:cNvSpPr/>
          <p:nvPr/>
        </p:nvSpPr>
        <p:spPr>
          <a:xfrm>
            <a:off x="5072040" y="5572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8000" spc="-1" strike="noStrike">
                <a:solidFill>
                  <a:srgbClr val="ffffff"/>
                </a:solidFill>
                <a:latin typeface="Britannic Bold"/>
              </a:rPr>
              <a:t>KICK</a:t>
            </a: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692280"/>
            <a:ext cx="6769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H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ANCE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1 Título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5516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divin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35720"/>
          </a:xfrm>
          <a:prstGeom prst="rect">
            <a:avLst/>
          </a:prstGeom>
          <a:ln w="0">
            <a:noFill/>
          </a:ln>
        </p:spPr>
      </p:pic>
      <p:sp>
        <p:nvSpPr>
          <p:cNvPr id="358" name="4 CuadroTexto"/>
          <p:cNvSpPr/>
          <p:nvPr/>
        </p:nvSpPr>
        <p:spPr>
          <a:xfrm>
            <a:off x="3143160" y="5500800"/>
            <a:ext cx="326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Britannic Bold"/>
              </a:rPr>
              <a:t>DIV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1 Título" descr=""/>
          <p:cNvPicPr/>
          <p:nvPr/>
        </p:nvPicPr>
        <p:blipFill>
          <a:blip r:embed="rId1"/>
          <a:stretch/>
        </p:blipFill>
        <p:spPr>
          <a:xfrm>
            <a:off x="328680" y="262080"/>
            <a:ext cx="8364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2:55Z</dcterms:created>
  <dc:creator>Bj</dc:creator>
  <dc:description/>
  <dc:language>en-US</dc:language>
  <cp:lastModifiedBy>I.E.S. FEDERICO GARCIA LORCA</cp:lastModifiedBy>
  <dcterms:modified xsi:type="dcterms:W3CDTF">2009-03-02T10:37:57Z</dcterms:modified>
  <cp:revision>16</cp:revision>
  <dc:subject/>
  <dc:title>Diapositiva 1</dc:title>
</cp:coreProperties>
</file>